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675-2F9E-4E29-BA34-26D6FF15002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8C9-9A93-42B0-BB2D-CBBB1EC01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430-BC1B-4F68-A6CE-BFE33D26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96F-C9AF-455E-9D9B-7AFFBBB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C5F-6CCA-4C2D-A06F-895492F2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BE6-ECC0-4B6E-907C-D52B6E59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DD8-9FB0-4A85-86B6-40F9DAB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1B5-9A1B-4878-B91C-E1BD64D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0BF-D03F-46F0-8DA3-E8EB073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336-B62E-4265-9485-C43A019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B7E-87D8-4757-8FED-3464A01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286-4AB4-4511-9EA3-983FFE4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BDF-BF2D-4C11-B4AB-FF671AA1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959-44C0-4936-AD13-492E980C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684D-32EE-42A4-9146-5E76D26FB0FA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4T13:08:40Z</dcterms:modified>
  <cp:revision>382</cp:revision>
  <dc:subject/>
  <dc:title>Low-carbon growth in Brazil?</dc:title>
</cp:coreProperties>
</file>